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5077-B782-4910-90BD-FA0DE6A35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1278-D793-4B94-9EDE-DFAECCC003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2267-2F8C-4BF9-8328-DE3F1E1766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4012-D891-4DA6-8180-411B9B3FD93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08C4-EEFF-4CA1-8BAB-1FA38C1A31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F64D-2092-4E0B-991B-6AA1708C2D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BE2C-F1FC-4BD8-8F15-F0D284F090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B911-AEE4-452E-B63B-61D1E46D05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EC9-D890-4B2D-A950-3E28F00B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3956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C532-D457-4C72-9FBC-7E6A89DB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62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BFE-0101-4B7A-BC92-B918A40E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768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3236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768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3236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9F2-5282-40FD-9C5B-39BC8CE9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C6BE-CBEF-4D85-80B8-AB5BDA54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E297-9C24-495E-B5B2-6F3C85EE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EC19-FF02-4BEA-82E7-5FB9F0CF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803C-66EE-47F1-B720-F87B89DC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57D4-CC35-44C1-A382-6CDA2655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533520"/>
            <a:ext cx="69343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BB77-4EA9-4A23-A5A9-C01985A5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7E2F-8F47-43E7-A7E4-3A8CB129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44E3-238A-4F27-A96C-78DFCF2E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62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8543-977B-498E-A8B9-5F823788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8E58-B13B-4FA3-9DE4-76903179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3956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7F6C-5BA2-4E7D-9AFA-891BA003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62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F849-8404-4C12-A57F-50A5F83D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8768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3236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8768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3236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8107-D50F-459E-BE3E-B9DF119A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A195-9F2B-4FE9-9BC5-181C0960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6D29-7752-4406-80CD-4C050496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E06-63A4-4717-9588-D3B06AB0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533520"/>
            <a:ext cx="69343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5EF9-E2A4-4DAC-8A50-1839D5CD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3BE-BBF3-43BF-A7E9-54626F84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62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115B-681F-43D5-89BD-42E7AC20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6950-0BF5-4703-8E96-1927DFC7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5336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90920" y="6531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2.03 Demonstrate desktop publish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31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18AD-51FF-4B30-9A69-E52916ED77EF}" type="slidenum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920" y="65336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590920" y="6531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2.03 Demonstrate desktop publish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781320" y="6531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DF52-ACEF-43C3-9B8D-B01EED80293E}" type="slidenum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1828440"/>
            <a:ext cx="70866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Layout of a Desktop Publishing Document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41911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1.03 Demonstrate desktop publishing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Margin Guide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4" name="Picture 10" descr="Fig2-01"/>
          <p:cNvPicPr/>
          <p:nvPr/>
        </p:nvPicPr>
        <p:blipFill>
          <a:blip r:embed="rId1"/>
          <a:stretch/>
        </p:blipFill>
        <p:spPr>
          <a:xfrm>
            <a:off x="4241880" y="1676520"/>
            <a:ext cx="4673520" cy="350496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2"/>
          <p:cNvGrpSpPr/>
          <p:nvPr/>
        </p:nvGrpSpPr>
        <p:grpSpPr>
          <a:xfrm>
            <a:off x="5410080" y="3123720"/>
            <a:ext cx="1981440" cy="2685600"/>
            <a:chOff x="5410080" y="3123720"/>
            <a:chExt cx="1981440" cy="2685600"/>
          </a:xfrm>
        </p:grpSpPr>
        <p:sp>
          <p:nvSpPr>
            <p:cNvPr id="96" name="Line 15"/>
            <p:cNvSpPr/>
            <p:nvPr/>
          </p:nvSpPr>
          <p:spPr>
            <a:xfrm flipV="1">
              <a:off x="6629400" y="3123720"/>
              <a:ext cx="762120" cy="2210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H="1" flipV="1">
              <a:off x="6476760" y="4647960"/>
              <a:ext cx="15228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9"/>
            <p:cNvSpPr/>
            <p:nvPr/>
          </p:nvSpPr>
          <p:spPr>
            <a:xfrm>
              <a:off x="5410080" y="5410440"/>
              <a:ext cx="194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99"/>
                  </a:solidFill>
                  <a:latin typeface="Arial"/>
                </a:rPr>
                <a:t>Margin Guide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Rectangle 3"/>
          <p:cNvSpPr/>
          <p:nvPr/>
        </p:nvSpPr>
        <p:spPr>
          <a:xfrm>
            <a:off x="533520" y="1752480"/>
            <a:ext cx="3581280" cy="342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aed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rgin guides are lines that indicate the space between the edge of the page and the documen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olumn Guide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1980720"/>
            <a:ext cx="2590560" cy="342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olumn guides control the flow of text within columns and keep text out of the gutter (space between columns)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5486400" y="548640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ple newsletter template from Microsof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3" name="Group 15"/>
          <p:cNvGrpSpPr/>
          <p:nvPr/>
        </p:nvGrpSpPr>
        <p:grpSpPr>
          <a:xfrm>
            <a:off x="3048120" y="1523880"/>
            <a:ext cx="5343480" cy="4514040"/>
            <a:chOff x="3048120" y="1523880"/>
            <a:chExt cx="5343480" cy="4514040"/>
          </a:xfrm>
        </p:grpSpPr>
        <p:pic>
          <p:nvPicPr>
            <p:cNvPr id="104" name="Picture 2" descr=""/>
            <p:cNvPicPr/>
            <p:nvPr/>
          </p:nvPicPr>
          <p:blipFill>
            <a:blip r:embed="rId1"/>
            <a:stretch/>
          </p:blipFill>
          <p:spPr>
            <a:xfrm>
              <a:off x="3048120" y="1981080"/>
              <a:ext cx="5343480" cy="3448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" name="Group 27"/>
            <p:cNvGrpSpPr/>
            <p:nvPr/>
          </p:nvGrpSpPr>
          <p:grpSpPr>
            <a:xfrm>
              <a:off x="3961800" y="1523880"/>
              <a:ext cx="3429720" cy="4514040"/>
              <a:chOff x="3961800" y="1523880"/>
              <a:chExt cx="3429720" cy="4514040"/>
            </a:xfrm>
          </p:grpSpPr>
          <p:cxnSp>
            <p:nvCxnSpPr>
              <p:cNvPr id="106" name="Straight Arrow Connector 13"/>
              <p:cNvCxnSpPr/>
              <p:nvPr/>
            </p:nvCxnSpPr>
            <p:spPr>
              <a:xfrm>
                <a:off x="6324840" y="1904400"/>
                <a:ext cx="381600" cy="610200"/>
              </a:xfrm>
              <a:prstGeom prst="straightConnector1">
                <a:avLst/>
              </a:prstGeom>
              <a:ln w="12600">
                <a:solidFill>
                  <a:srgbClr val="ff0000"/>
                </a:solidFill>
                <a:miter/>
                <a:tailEnd len="med" type="arrow" w="med"/>
              </a:ln>
            </p:spPr>
          </p:cxnSp>
          <p:cxnSp>
            <p:nvCxnSpPr>
              <p:cNvPr id="107" name="Straight Arrow Connector 14"/>
              <p:cNvCxnSpPr/>
              <p:nvPr/>
            </p:nvCxnSpPr>
            <p:spPr>
              <a:xfrm flipH="1">
                <a:off x="4876560" y="1904760"/>
                <a:ext cx="1448640" cy="838800"/>
              </a:xfrm>
              <a:prstGeom prst="straightConnector1">
                <a:avLst/>
              </a:prstGeom>
              <a:ln w="12600">
                <a:solidFill>
                  <a:srgbClr val="ff0000"/>
                </a:solidFill>
                <a:miter/>
                <a:tailEnd len="med" type="arrow" w="med"/>
              </a:ln>
            </p:spPr>
          </p:cxnSp>
          <p:sp>
            <p:nvSpPr>
              <p:cNvPr id="108" name="TextBox 19"/>
              <p:cNvSpPr/>
              <p:nvPr/>
            </p:nvSpPr>
            <p:spPr>
              <a:xfrm>
                <a:off x="5257800" y="1523880"/>
                <a:ext cx="21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99"/>
                    </a:solidFill>
                    <a:latin typeface="Arial"/>
                  </a:rPr>
                  <a:t>Column Guides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cxnSp>
            <p:nvCxnSpPr>
              <p:cNvPr id="109" name="Straight Arrow Connector 21"/>
              <p:cNvCxnSpPr/>
              <p:nvPr/>
            </p:nvCxnSpPr>
            <p:spPr>
              <a:xfrm flipH="1" flipV="1">
                <a:off x="3961800" y="5104800"/>
                <a:ext cx="686520" cy="533880"/>
              </a:xfrm>
              <a:prstGeom prst="straightConnector1">
                <a:avLst/>
              </a:prstGeom>
              <a:ln w="12600">
                <a:solidFill>
                  <a:srgbClr val="ff0000"/>
                </a:solidFill>
                <a:miter/>
                <a:tailEnd len="med" type="arrow" w="med"/>
              </a:ln>
            </p:spPr>
          </p:cxnSp>
          <p:cxnSp>
            <p:nvCxnSpPr>
              <p:cNvPr id="110" name="Straight Arrow Connector 23"/>
              <p:cNvCxnSpPr/>
              <p:nvPr/>
            </p:nvCxnSpPr>
            <p:spPr>
              <a:xfrm flipV="1">
                <a:off x="4647240" y="3276360"/>
                <a:ext cx="153000" cy="2363040"/>
              </a:xfrm>
              <a:prstGeom prst="straightConnector1">
                <a:avLst/>
              </a:prstGeom>
              <a:ln w="12600">
                <a:solidFill>
                  <a:srgbClr val="ff0000"/>
                </a:solidFill>
                <a:miter/>
                <a:tailEnd len="med" type="arrow" w="med"/>
              </a:ln>
            </p:spPr>
          </p:cxnSp>
          <p:sp>
            <p:nvSpPr>
              <p:cNvPr id="111" name="TextBox 26"/>
              <p:cNvSpPr/>
              <p:nvPr/>
            </p:nvSpPr>
            <p:spPr>
              <a:xfrm>
                <a:off x="3962520" y="563904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99"/>
                    </a:solidFill>
                    <a:latin typeface="Arial"/>
                  </a:rPr>
                  <a:t>Gutters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Ruler Guide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43000" y="1752480"/>
            <a:ext cx="266688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uler guides are used to align objects consistentl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3733920" y="1523880"/>
            <a:ext cx="4800600" cy="4666320"/>
            <a:chOff x="3733920" y="1523880"/>
            <a:chExt cx="4800600" cy="4666320"/>
          </a:xfrm>
        </p:grpSpPr>
        <p:pic>
          <p:nvPicPr>
            <p:cNvPr id="115" name="Picture 4" descr=""/>
            <p:cNvPicPr/>
            <p:nvPr/>
          </p:nvPicPr>
          <p:blipFill>
            <a:blip r:embed="rId1"/>
            <a:stretch/>
          </p:blipFill>
          <p:spPr>
            <a:xfrm>
              <a:off x="3962520" y="1523880"/>
              <a:ext cx="4505400" cy="394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Group 13"/>
            <p:cNvGrpSpPr/>
            <p:nvPr/>
          </p:nvGrpSpPr>
          <p:grpSpPr>
            <a:xfrm>
              <a:off x="3733920" y="3049200"/>
              <a:ext cx="4800600" cy="3141000"/>
              <a:chOff x="3733920" y="3049200"/>
              <a:chExt cx="4800600" cy="3141000"/>
            </a:xfrm>
          </p:grpSpPr>
          <p:sp>
            <p:nvSpPr>
              <p:cNvPr id="117" name="TextBox 6"/>
              <p:cNvSpPr/>
              <p:nvPr/>
            </p:nvSpPr>
            <p:spPr>
              <a:xfrm>
                <a:off x="3733920" y="5791320"/>
                <a:ext cx="480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99"/>
                    </a:solidFill>
                    <a:latin typeface="Arial"/>
                  </a:rPr>
                  <a:t>Horizontal and Vertical Ruler Guides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cxnSp>
            <p:nvCxnSpPr>
              <p:cNvPr id="118" name="Straight Arrow Connector 8"/>
              <p:cNvCxnSpPr/>
              <p:nvPr/>
            </p:nvCxnSpPr>
            <p:spPr>
              <a:xfrm flipV="1">
                <a:off x="5942520" y="4190400"/>
                <a:ext cx="1067400" cy="1600920"/>
              </a:xfrm>
              <a:prstGeom prst="straightConnector1">
                <a:avLst/>
              </a:prstGeom>
              <a:ln w="12600">
                <a:solidFill>
                  <a:srgbClr val="ff0000"/>
                </a:solidFill>
                <a:miter/>
                <a:tailEnd len="med" type="arrow" w="med"/>
              </a:ln>
            </p:spPr>
          </p:cxnSp>
          <p:cxnSp>
            <p:nvCxnSpPr>
              <p:cNvPr id="119" name="Straight Arrow Connector 9"/>
              <p:cNvCxnSpPr/>
              <p:nvPr/>
            </p:nvCxnSpPr>
            <p:spPr>
              <a:xfrm flipH="1" flipV="1">
                <a:off x="5563800" y="3049200"/>
                <a:ext cx="380160" cy="2742480"/>
              </a:xfrm>
              <a:prstGeom prst="straightConnector1">
                <a:avLst/>
              </a:prstGeom>
              <a:ln w="12600">
                <a:solidFill>
                  <a:srgbClr val="ff0000"/>
                </a:solidFill>
                <a:miter/>
                <a:tailEnd len="med" type="arrow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Grid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440" y="1676520"/>
            <a:ext cx="7086600" cy="437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Grids are guidelines used to ensure consistent placement of logos, graphics, and other objects throughout multiple documents, such as a print media ki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28800" y="2971800"/>
            <a:ext cx="6031080" cy="2771640"/>
            <a:chOff x="1828800" y="2971800"/>
            <a:chExt cx="6031080" cy="2771640"/>
          </a:xfrm>
        </p:grpSpPr>
        <p:pic>
          <p:nvPicPr>
            <p:cNvPr id="123" name="Picture 3" descr=""/>
            <p:cNvPicPr/>
            <p:nvPr/>
          </p:nvPicPr>
          <p:blipFill>
            <a:blip r:embed="rId1"/>
            <a:stretch/>
          </p:blipFill>
          <p:spPr>
            <a:xfrm>
              <a:off x="3505320" y="2971800"/>
              <a:ext cx="4354560" cy="277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Group 15"/>
            <p:cNvGrpSpPr/>
            <p:nvPr/>
          </p:nvGrpSpPr>
          <p:grpSpPr>
            <a:xfrm>
              <a:off x="1828800" y="4419000"/>
              <a:ext cx="3734280" cy="1143360"/>
              <a:chOff x="1828800" y="4419000"/>
              <a:chExt cx="3734280" cy="1143360"/>
            </a:xfrm>
          </p:grpSpPr>
          <p:cxnSp>
            <p:nvCxnSpPr>
              <p:cNvPr id="125" name="Straight Arrow Connector 6"/>
              <p:cNvCxnSpPr/>
              <p:nvPr/>
            </p:nvCxnSpPr>
            <p:spPr>
              <a:xfrm flipV="1">
                <a:off x="2742840" y="4419000"/>
                <a:ext cx="2667960" cy="534240"/>
              </a:xfrm>
              <a:prstGeom prst="straightConnector1">
                <a:avLst/>
              </a:prstGeom>
              <a:ln w="12600">
                <a:solidFill>
                  <a:srgbClr val="ff0000"/>
                </a:solidFill>
                <a:miter/>
                <a:tailEnd len="med" type="arrow" w="med"/>
              </a:ln>
            </p:spPr>
          </p:cxnSp>
          <p:cxnSp>
            <p:nvCxnSpPr>
              <p:cNvPr id="126" name="Straight Arrow Connector 7"/>
              <p:cNvCxnSpPr/>
              <p:nvPr/>
            </p:nvCxnSpPr>
            <p:spPr>
              <a:xfrm>
                <a:off x="2819520" y="4952520"/>
                <a:ext cx="915120" cy="610200"/>
              </a:xfrm>
              <a:prstGeom prst="straightConnector1">
                <a:avLst/>
              </a:prstGeom>
              <a:ln w="12600">
                <a:solidFill>
                  <a:srgbClr val="ff0000"/>
                </a:solidFill>
                <a:miter/>
                <a:tailEnd len="med" type="arrow" w="med"/>
              </a:ln>
            </p:spPr>
          </p:cxnSp>
          <p:cxnSp>
            <p:nvCxnSpPr>
              <p:cNvPr id="127" name="Straight Arrow Connector 9"/>
              <p:cNvCxnSpPr/>
              <p:nvPr/>
            </p:nvCxnSpPr>
            <p:spPr>
              <a:xfrm>
                <a:off x="2743200" y="4952880"/>
                <a:ext cx="2820240" cy="534240"/>
              </a:xfrm>
              <a:prstGeom prst="straightConnector1">
                <a:avLst/>
              </a:prstGeom>
              <a:ln w="12600">
                <a:solidFill>
                  <a:srgbClr val="ff0000"/>
                </a:solidFill>
                <a:miter/>
                <a:tailEnd len="med" type="arrow" w="med"/>
              </a:ln>
            </p:spPr>
          </p:cxnSp>
          <p:sp>
            <p:nvSpPr>
              <p:cNvPr id="128" name="TextBox 14"/>
              <p:cNvSpPr/>
              <p:nvPr/>
            </p:nvSpPr>
            <p:spPr>
              <a:xfrm>
                <a:off x="1828800" y="44953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99"/>
                    </a:solidFill>
                    <a:latin typeface="Arial"/>
                  </a:rPr>
                  <a:t>Grids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emplat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 standard pre-formatted layout which may contain a color scheme, font scheme, pictures, and preset margins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age Siz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ublications can vary in size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ifferent purposes require different paper sizes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Business card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Brochure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Poster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Invitation 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429000" y="2590920"/>
            <a:ext cx="4967280" cy="3741480"/>
            <a:chOff x="3429000" y="2590920"/>
            <a:chExt cx="4967280" cy="3741480"/>
          </a:xfrm>
        </p:grpSpPr>
        <p:pic>
          <p:nvPicPr>
            <p:cNvPr id="134" name="Picture 2" descr=""/>
            <p:cNvPicPr/>
            <p:nvPr/>
          </p:nvPicPr>
          <p:blipFill>
            <a:blip r:embed="rId1"/>
            <a:stretch/>
          </p:blipFill>
          <p:spPr>
            <a:xfrm>
              <a:off x="3429000" y="4267080"/>
              <a:ext cx="1981440" cy="153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4" descr=""/>
            <p:cNvPicPr/>
            <p:nvPr/>
          </p:nvPicPr>
          <p:blipFill>
            <a:blip r:embed="rId2"/>
            <a:stretch/>
          </p:blipFill>
          <p:spPr>
            <a:xfrm>
              <a:off x="5486400" y="4114800"/>
              <a:ext cx="2909880" cy="22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5" descr=""/>
            <p:cNvPicPr/>
            <p:nvPr/>
          </p:nvPicPr>
          <p:blipFill>
            <a:blip r:embed="rId3"/>
            <a:stretch/>
          </p:blipFill>
          <p:spPr>
            <a:xfrm>
              <a:off x="5410440" y="3276360"/>
              <a:ext cx="94284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6" descr=""/>
            <p:cNvPicPr/>
            <p:nvPr/>
          </p:nvPicPr>
          <p:blipFill>
            <a:blip r:embed="rId4"/>
            <a:stretch/>
          </p:blipFill>
          <p:spPr>
            <a:xfrm>
              <a:off x="6858360" y="2590920"/>
              <a:ext cx="1473840" cy="114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3:50:35Z</dcterms:created>
  <dc:creator>Ruth Lupton</dc:creator>
  <dc:description/>
  <dc:language>en-US</dc:language>
  <cp:lastModifiedBy>Trey and Amy Michael</cp:lastModifiedBy>
  <dcterms:modified xsi:type="dcterms:W3CDTF">2010-06-25T15:05:36Z</dcterms:modified>
  <cp:revision>82</cp:revision>
  <dc:subject/>
  <dc:title>Information Support and Servi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